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7DC3-AAB9-43BA-961D-E2DAD86F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E2F1-E77D-4804-A1E7-22DBE3EF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A81A-D2EB-4B6F-A1CD-2D678357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29A6-D626-4FA1-B18A-DE4C358B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51FA-F2C0-4053-AB74-A67907BA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2DF6-AB9C-4629-8EC8-5196BED1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0CC3-4D1D-4155-9654-63951766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CD59-6202-4DB7-AC87-C33AAE0C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F056-FFDF-4A4B-BE2D-293CAF7C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BF96-44EC-414D-A86F-C2F1C788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245E-86FF-4D2F-9C81-E6BCA3FA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36FE-02E3-427C-A890-0E65D175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20F2-E328-460B-88CF-A684ACDB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78B3-7C7B-46BD-A9B6-58A7CB51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CC74-6435-49CF-9FEE-80F639AB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4990-26BB-4C69-A48C-42BC1B41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8055-E346-4CAA-8FE7-4CCFFA47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A3E0-1C70-4C22-A4D4-6D435E66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76C9-395E-403C-8D96-12FAD002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26B5-A958-4531-AF50-4159105B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819E-9181-400E-B651-76E6CBFE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FE04-2241-4D2F-BBD5-07457585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B3EB-9BEC-401B-8D43-3E971587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595B-A20F-4103-B57F-0968700C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2923-BAD1-4B4B-9803-ADE57BA90F7C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9714-6DF7-4AAE-B08A-EBEDB36942D3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7c1302"/>
                </a:solidFill>
                <a:latin typeface="Arial"/>
              </a:rPr>
              <a:t>Chapitre 2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000000"/>
                </a:solidFill>
                <a:latin typeface="Arial"/>
              </a:rPr>
              <a:t>Techniques qualitatives et recherche en Sc. So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3</a:t>
            </a:r>
            <a:r>
              <a:rPr b="1" lang="fr-BE" sz="3900" spc="-1" strike="noStrike" baseline="30000">
                <a:solidFill>
                  <a:srgbClr val="7c1302"/>
                </a:solidFill>
                <a:latin typeface="Arial"/>
              </a:rPr>
              <a:t>e</a:t>
            </a: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 étape : exploratoire</a:t>
            </a:r>
            <a:br>
              <a:rPr sz="3900"/>
            </a:b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Les problèm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La fuite en avant (gloutonnerie livresque ou statistiqu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N’oubliez pas la « loi du moindre effort 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L’impasse aux hypothè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Emphase obscurcissan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4</a:t>
            </a:r>
            <a:r>
              <a:rPr b="1" lang="fr-BE" sz="3900" spc="-1" strike="noStrike" baseline="30000">
                <a:solidFill>
                  <a:srgbClr val="7c1302"/>
                </a:solidFill>
                <a:latin typeface="Arial"/>
              </a:rPr>
              <a:t>e</a:t>
            </a: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 étape : la problématiqu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= perspective théorique que l’on décide d’adopter pour traiter le problème posé par la question de dépar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Ex. Je veux étudier la reproduction sociale en milieux scolaires à travers l’approche bourdivine (habitus, capitaux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3 po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Faire le point sur les infos récoltées à l’étape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Se donner une problématique (orientation théoriqu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Expliciter son choi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5</a:t>
            </a:r>
            <a:r>
              <a:rPr b="1" lang="fr-BE" sz="3900" spc="-1" strike="noStrike" baseline="30000">
                <a:solidFill>
                  <a:srgbClr val="7c1302"/>
                </a:solidFill>
                <a:latin typeface="Arial"/>
              </a:rPr>
              <a:t>e</a:t>
            </a: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 étape : La construction du modèle d’analys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= Formuler une hypothèse qu’on va soumettre à l’étu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Deux méthodes 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Construction de concep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Construction d’hypothè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5</a:t>
            </a:r>
            <a:r>
              <a:rPr b="1" lang="fr-BE" sz="3900" spc="-1" strike="noStrike" baseline="30000">
                <a:solidFill>
                  <a:srgbClr val="7c1302"/>
                </a:solidFill>
                <a:latin typeface="Arial"/>
              </a:rPr>
              <a:t>e</a:t>
            </a: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 étape. Construction…</a:t>
            </a:r>
            <a:br>
              <a:rPr sz="3900"/>
            </a:b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A. Les concept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cc3300"/>
                </a:solidFill>
                <a:latin typeface="Arial"/>
              </a:rPr>
              <a:t>Concepts </a:t>
            </a:r>
            <a:r>
              <a:rPr b="0" lang="fr-BE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600" spc="-1" strike="noStrike">
                <a:solidFill>
                  <a:srgbClr val="cc9900"/>
                </a:solidFill>
                <a:latin typeface="Arial"/>
              </a:rPr>
              <a:t>Dimensions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600" spc="-1" strike="noStrike">
                <a:solidFill>
                  <a:srgbClr val="cc9900"/>
                </a:solidFill>
                <a:latin typeface="Arial"/>
              </a:rPr>
              <a:t>Indicateu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Ex. Vieillesse (concept) </a:t>
            </a:r>
            <a:r>
              <a:rPr b="0" lang="fr-BE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Chronologie(dimensi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âge (indicateu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Ex.  Délinquance juvénile (concept) </a:t>
            </a:r>
            <a:r>
              <a:rPr b="0" lang="fr-BE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Jeunes, criminalité (dimensions) </a:t>
            </a:r>
            <a:r>
              <a:rPr b="0" lang="fr-BE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âge de délinquants, nature des actes délictueux (indicateur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ID : passer de l’abstrait (concept) au concret (indicateu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Deux méthodes de construction des concepts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- Induction (Concept Opératoire Isolé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- Déduction (Concept systémiqu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5e étape. Construction…</a:t>
            </a:r>
            <a:br>
              <a:rPr sz="3900"/>
            </a:b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B. hypothès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Hypothèse comme anticipation d’une relation entre un phénomène et un concept capable d’en rendre comp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Hypothèse comme anticipation d’une relation entre deux concepts (+ fréquent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900" spc="-1" strike="noStrike">
                <a:solidFill>
                  <a:srgbClr val="cc9900"/>
                </a:solidFill>
                <a:latin typeface="Arial"/>
              </a:rPr>
              <a:t>Hypothetico-inductive</a:t>
            </a: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 Vs </a:t>
            </a:r>
            <a:r>
              <a:rPr b="1" lang="fr-BE" sz="3900" spc="-1" strike="noStrike">
                <a:solidFill>
                  <a:srgbClr val="cc3300"/>
                </a:solidFill>
                <a:latin typeface="Arial"/>
              </a:rPr>
              <a:t>Hypothetico-déductiv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cc9900"/>
                </a:solidFill>
                <a:latin typeface="Arial"/>
              </a:rPr>
              <a:t>IN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La construction du modèle part de l’</a:t>
            </a: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observation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L’indicateur est empiri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Sur base de l’indicateur, on construit de nouveaux concepts, de nouvelles hypothèses et partant le modèle soumis à l’épreuve des fa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cc3300"/>
                </a:solidFill>
                <a:latin typeface="Arial"/>
              </a:rPr>
              <a:t>DE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La construction part d’un postulat ou d’un concept totalisant postulé comme modèle d’interprétation du phénomène étudi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Le modèle génère, par un travail logique, des hypothèses, des concepts et des indicateurs auxquels il faudra chercher des correspondances dans le ré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6</a:t>
            </a:r>
            <a:r>
              <a:rPr b="1" lang="fr-BE" sz="3900" spc="-1" strike="noStrike" baseline="30000">
                <a:solidFill>
                  <a:srgbClr val="7c1302"/>
                </a:solidFill>
                <a:latin typeface="Arial"/>
              </a:rPr>
              <a:t>e</a:t>
            </a: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 étape : l’enquêt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Sélection et définition des méthodes qualitatives / quantitativ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Délimitation du champ / population investigué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Construction de l’outil et te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Passation de l’enquê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7</a:t>
            </a:r>
            <a:r>
              <a:rPr b="1" lang="fr-BE" sz="3900" spc="-1" strike="noStrike" baseline="30000">
                <a:solidFill>
                  <a:srgbClr val="7c1302"/>
                </a:solidFill>
                <a:latin typeface="Arial"/>
              </a:rPr>
              <a:t>e</a:t>
            </a: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 étape : analys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Deux objectifs 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Constater ou non si les résultats observés correspondent aux résultats attendus par l’hypothèse. Vérification empiriq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Interprétation de faits inattendus, améliorer le modèle d’analy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Trois opérations 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Préparer les données récolté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Analyser les relations entre les vari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Comparer les résult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8</a:t>
            </a:r>
            <a:r>
              <a:rPr b="1" lang="fr-BE" sz="3900" spc="-1" strike="noStrike" baseline="30000">
                <a:solidFill>
                  <a:srgbClr val="7c1302"/>
                </a:solidFill>
                <a:latin typeface="Arial"/>
              </a:rPr>
              <a:t>e</a:t>
            </a: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 Etape : Les conclusion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Rappeler les grandes lignes de la démarch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Souligner les apports de la recherche en termes de connaissan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Formuler des propositions pratiqu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Récapitulatif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BE" sz="26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Etape : choisir son thème de recher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BE" sz="26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Etape : Définir une question de dé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r-BE" sz="26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Etape : </a:t>
            </a:r>
            <a:r>
              <a:rPr b="1" i="1" lang="fr-BE" sz="2600" spc="-1" strike="noStrike">
                <a:solidFill>
                  <a:srgbClr val="cc3300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r-BE" sz="26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Etape : Problémat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fr-BE" sz="26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Etape : Construction du modèle d’analyse (concepts et hypothès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r-BE" sz="26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Etape : </a:t>
            </a:r>
            <a:r>
              <a:rPr b="1" i="1" lang="fr-BE" sz="2600" spc="-1" strike="noStrike">
                <a:solidFill>
                  <a:srgbClr val="cc3300"/>
                </a:solidFill>
                <a:latin typeface="Arial"/>
              </a:rPr>
              <a:t>Enquê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fr-BE" sz="26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Etape : Analy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r-BE" sz="26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Etape : Conclu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Les actes de la recherch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400" spc="-1" strike="noStrike">
                <a:solidFill>
                  <a:srgbClr val="cc3300"/>
                </a:solidFill>
                <a:latin typeface="Arial"/>
              </a:rPr>
              <a:t>Rupture </a:t>
            </a: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: Le fait scientifique est conquis sur les préjugé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400" spc="-1" strike="noStrike">
                <a:solidFill>
                  <a:srgbClr val="cc3300"/>
                </a:solidFill>
                <a:latin typeface="Arial"/>
              </a:rPr>
              <a:t>Construction</a:t>
            </a: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 : Le fait scientifique est construit par la rais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400" spc="-1" strike="noStrike">
                <a:solidFill>
                  <a:srgbClr val="cc3300"/>
                </a:solidFill>
                <a:latin typeface="Arial"/>
              </a:rPr>
              <a:t>Constatation</a:t>
            </a:r>
            <a:r>
              <a:rPr b="0" lang="fr-BE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: Le fait scientifique est constaté par les fa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300" spc="-1" strike="noStrike">
                <a:solidFill>
                  <a:srgbClr val="7c1302"/>
                </a:solidFill>
                <a:latin typeface="Arial"/>
              </a:rPr>
              <a:t>1ère étape : choix du thème</a:t>
            </a:r>
            <a:endParaRPr b="1" lang="en-US" sz="43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Hypothèse du choix du thème : sé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R1 : Pas un thème trop vas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R2 : Eviter des sujets trop pittoresq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R3 : Choisir un thème qui vous par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R4 : Introspect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500" spc="-1" strike="noStrike">
                <a:solidFill>
                  <a:srgbClr val="7c1302"/>
                </a:solidFill>
                <a:latin typeface="Arial"/>
              </a:rPr>
              <a:t>2</a:t>
            </a:r>
            <a:r>
              <a:rPr b="1" lang="fr-BE" sz="3500" spc="-1" strike="noStrike" baseline="30000">
                <a:solidFill>
                  <a:srgbClr val="7c1302"/>
                </a:solidFill>
                <a:latin typeface="Arial"/>
              </a:rPr>
              <a:t>e</a:t>
            </a:r>
            <a:r>
              <a:rPr b="1" lang="fr-BE" sz="3500" spc="-1" strike="noStrike">
                <a:solidFill>
                  <a:srgbClr val="7c1302"/>
                </a:solidFill>
                <a:latin typeface="Arial"/>
              </a:rPr>
              <a:t> étape : Question de départ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Base de votre recher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Sujet à de multiples remaniements (lectures initiales, choix d’un terrain/popul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Appropriez-vous votre ques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Naïvet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Abstrait </a:t>
            </a:r>
            <a:r>
              <a:rPr b="0" lang="fr-BE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Concr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Familiarité et dist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Se dégager de ses </a:t>
            </a:r>
            <a:r>
              <a:rPr b="0" i="1" lang="fr-BE" sz="2600" spc="-1" strike="noStrike">
                <a:solidFill>
                  <a:srgbClr val="000000"/>
                </a:solidFill>
                <a:latin typeface="Arial"/>
              </a:rPr>
              <a:t>a priori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. Rupture </a:t>
            </a:r>
            <a:r>
              <a:rPr b="0" lang="fr-BE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Lec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Critères de qualité d’une bonne question de dépar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000000"/>
                </a:solidFill>
                <a:latin typeface="Arial"/>
              </a:rPr>
              <a:t>Clarté 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100" spc="-1" strike="noStrike">
                <a:solidFill>
                  <a:srgbClr val="000000"/>
                </a:solidFill>
                <a:latin typeface="Arial"/>
              </a:rPr>
              <a:t>Quel est l’impact des changements dans l’aménagement de l’espace urbain sur la vie quotidienne des habitants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000000"/>
                </a:solidFill>
                <a:latin typeface="Arial"/>
              </a:rPr>
              <a:t>Faisabilité 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100" spc="-1" strike="noStrike">
                <a:solidFill>
                  <a:srgbClr val="000000"/>
                </a:solidFill>
                <a:latin typeface="Arial"/>
              </a:rPr>
              <a:t>Quel est l’impact du commerce équitable sur les petits producteurs d’Afrique et d’Amérique latin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000000"/>
                </a:solidFill>
                <a:latin typeface="Arial"/>
              </a:rPr>
              <a:t>Pertinence 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100" spc="-1" strike="noStrike">
                <a:solidFill>
                  <a:srgbClr val="000000"/>
                </a:solidFill>
                <a:latin typeface="Arial"/>
              </a:rPr>
              <a:t>La mondialisation est-elle un danger pour notre société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BE" sz="3000" spc="-1" strike="noStrike">
                <a:solidFill>
                  <a:srgbClr val="000000"/>
                </a:solidFill>
                <a:latin typeface="Arial"/>
              </a:rPr>
              <a:t>Exerc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3</a:t>
            </a:r>
            <a:r>
              <a:rPr b="1" lang="fr-BE" sz="3900" spc="-1" strike="noStrike" baseline="30000">
                <a:solidFill>
                  <a:srgbClr val="7c1302"/>
                </a:solidFill>
                <a:latin typeface="Arial"/>
              </a:rPr>
              <a:t>e</a:t>
            </a: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 étape : Explorat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Processus de rupture épistémologique en cour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Techniques qualitatives mobilisées : recherche documentaire, ITW, observ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3</a:t>
            </a:r>
            <a:r>
              <a:rPr b="1" lang="fr-BE" sz="3900" spc="-1" strike="noStrike" baseline="30000">
                <a:solidFill>
                  <a:srgbClr val="7c1302"/>
                </a:solidFill>
                <a:latin typeface="Arial"/>
              </a:rPr>
              <a:t>e</a:t>
            </a: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 étape : exploration</a:t>
            </a:r>
            <a:br>
              <a:rPr sz="3900"/>
            </a:b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A. Lectur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5 principes d’organisation des lectures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Sélectionner les ouvrages en s’en tenant à sa question de dép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Limiter ses lectures et éviter les répétitio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Rechercher des documents qui donnent une première orient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Diversité plutôt qu’exhaustivi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Se ménager du temps pour la réflex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Réaliser une grille de lecture, faire des fiches, rédiger un résum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3</a:t>
            </a:r>
            <a:r>
              <a:rPr b="1" lang="fr-BE" sz="3900" spc="-1" strike="noStrike" baseline="30000">
                <a:solidFill>
                  <a:srgbClr val="7c1302"/>
                </a:solidFill>
                <a:latin typeface="Arial"/>
              </a:rPr>
              <a:t>e</a:t>
            </a: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 étape : l’exploration</a:t>
            </a:r>
            <a:br>
              <a:rPr sz="3900"/>
            </a:b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A. Lectur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4 raisons de lire d’abord avant le ter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Inscription dans une tradition de recherche cumul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Adaptation de votre question initiale à une réalité changeante (+ rupt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Ignorance et naïveté sur le terrai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Sans lecture préalable vous arrivez avec vos propres cliché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Derniers conseils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Lectures de premières ma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Lecture a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Lecture hypercriti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Trouver un juste équilibre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300" spc="-1" strike="noStrike">
                <a:solidFill>
                  <a:srgbClr val="000000"/>
                </a:solidFill>
                <a:latin typeface="Arial"/>
              </a:rPr>
              <a:t>Aller sur le terrain la fleur au fusi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300" spc="-1" strike="noStrike">
                <a:solidFill>
                  <a:srgbClr val="000000"/>
                </a:solidFill>
                <a:latin typeface="Arial"/>
              </a:rPr>
              <a:t>S’enfermer dans une bibliothèqu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3</a:t>
            </a:r>
            <a:r>
              <a:rPr b="1" lang="fr-BE" sz="3900" spc="-1" strike="noStrike" baseline="30000">
                <a:solidFill>
                  <a:srgbClr val="7c1302"/>
                </a:solidFill>
                <a:latin typeface="Arial"/>
              </a:rPr>
              <a:t>e</a:t>
            </a: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 étape : l’exploration</a:t>
            </a:r>
            <a:br>
              <a:rPr sz="3900"/>
            </a:br>
            <a:r>
              <a:rPr b="1" lang="fr-BE" sz="3900" spc="-1" strike="noStrike">
                <a:solidFill>
                  <a:srgbClr val="7c1302"/>
                </a:solidFill>
                <a:latin typeface="Arial"/>
              </a:rPr>
              <a:t>B. Les entretiens exploratoir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Qui interroger ? (1)Chercheurs, enseignants; (2) Témoins privilégiés; (3) Public concerné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Comment ITWer? non directif. Relances. Pas d’opin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Qu’est-ce que je récolte? Des informations qui vont affiner ma question de départ et me permettre de passer à la formulation d’une première hypothès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08:14:23Z</dcterms:created>
  <dc:creator>PIROTTE</dc:creator>
  <dc:description/>
  <dc:language>en-US</dc:language>
  <cp:lastModifiedBy>Sophie</cp:lastModifiedBy>
  <dcterms:modified xsi:type="dcterms:W3CDTF">2006-10-12T13:04:38Z</dcterms:modified>
  <cp:revision>4</cp:revision>
  <dc:subject/>
  <dc:title>Chapitre 2</dc:title>
</cp:coreProperties>
</file>